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38C-EF35-4A3C-A7B8-5A3EDDF7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836-62FA-4E95-81BE-4C260F6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B8B-7E80-4322-A612-B2692F6A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081-03AD-4327-9615-4D9D0570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4C2-7354-4D83-B829-24019A6C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75D8-2F3B-470C-A5ED-15D87E68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222-FE26-4BCC-8485-1608EA63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492-F32B-42F1-A6F5-346F6D5F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A881-B189-4D73-8AE2-3BC48E55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5C9-F60B-4865-9A57-65D70F4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325-9ECC-4A9D-A873-AEDDE80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5D0-8F90-450F-A605-D1E0F8A1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AA55-AD93-4346-A956-35C2F76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FF15-CC12-463A-811C-7CEF616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13F3-B05D-4CCD-B948-CE856F22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1D4-E1B1-4C47-A141-04E7C198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7A27-402C-4EE9-91E9-2FD25FAD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A30-A3D4-448F-8EEE-37CC1664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493-D832-42FF-BFC8-FE7432F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F56-EF06-4297-BB4B-AA366D80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4BA-E962-413D-A0AD-7117918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366-570C-4205-B535-B109CAAB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A11-329A-4FAA-B260-118ABD9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05E-0FB0-4AA2-86EC-16311E23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9965-6D24-49CC-B9A1-CBD5EEB3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E4B4-8FE2-4883-9763-04456181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сти развития современной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ременное научное знание признает в качестве своего фундамента следующие принцип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истем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амоорганиз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историч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глобальный эволюциониз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7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результате данных спонтанных изменений и отношений (флуктуаций) существующие связи между элементами материи изменяются, а также появляются новые связи – материя приобретает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«диссипативную структуру»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оторая отличается неустойчивостью, открытостью, притоком энергии и вещества извн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9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остоянии крайней неустойчивости диссипативная структура переходит в одно из возможных устойчивых состояний. Будущее состояние предсказать невозмож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оорганизация – гигантская коллективная флуктуация, которая не подчиняется законам вероят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7634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момент перехода элементы системы ведут себя коррелированно, хотя до этого пребывали в хаотическом движении (порядок из хаос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чка бифуркации – критическое значение параметров системы, при которых возможен переход системы в новое кач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еномен бифуркации вводит в физику элемент исторического подх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льнейшее развитие возможно по двум вариант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«диссипативная структура»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укрепляе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окончательно превращается в новый вид матери, но только при условии притока энергии из внешней сред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«диссипативная структура»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распадае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гибне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либо в результате внутренней слабости, неестественности, непрочности новых связей, либо из-за отсутствия притока энергии из внешней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й эволюцио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56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онцепции глобального эволюционизма Вселенная представляется в качестве развивающегося во времени природного цел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я история Вселенной от "Большого взрыва" до возникновения человечества рассматривается как единый процесс, в котором космический, химический, биологический и социальный типы эволюции имеют генетическую и структурную преемствен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й эволюциониз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обальный эволюционизм представляет собой синтез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систем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эволюционног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д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стемный подход предполагает, прежде всего, выявление целостности исследуемой системы, ее взаимосвязей с окружающей средой, анализ в рамках целостной системы свойств составляющих ее элементов и их взаимосвязей между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 системой обычно понимают некое упорядоченное множество взаимосвязанных элемен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ффект системности обнаруживается в появлении у целостной системы новых свойств, возникающих в результате взаимодействия элемен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селенная - наиболее крупная из известных нам систем, состоящая из огромного множества элементов (подсистем) разного уровня сложности и упорядоч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волюцион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7489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тверждение концепции глобального эволюционизма связано с расширением границ эволюционного подхода, принятого в биологической и социальных наук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реход к биологическому и от биологического к социальному миру, можно объяснить допуская историчность и других систе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вод: все другие системы (помимо биологической и социальной) сформировались в результате эволю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й эволюцио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69138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верждению глобального эволюционизма способствовали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4164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ория нестационарной Вселенной (см теорию Большого взрыва и расширяющейся вселенно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4164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нергетик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4164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цепция биосферы и ноосфе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систем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904760"/>
            <a:ext cx="70563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истемное позн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преобразование мира предполаг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смотрение объекта деятельности как ограниченного множества взаимодействующих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состава, структуры и организации элементов и частей системы, связей между 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ория биологической эволюции. Концепция биосферы и но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ин из создателей -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Владимир Иванович Вернадский (1863-1945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иосферой именуют область существования ныне живущих организмов. Границы биосферы являются и границами распространения жизни на Земле. Биосфера включает в себя вещество и пространство и все живые организ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0563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3596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иосфера представляет собой целостную систему, обладающую способностью к эволю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изнь - целостный эволюционный процесс, включенный в качестве особой составляющей в космическую эволюц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рнадский утверждает, что наблюдается переход биосферы в новое состояние - в ноосферу под действием новой геологической силы, научной мысли челове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640" y="1905120"/>
            <a:ext cx="7345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осфера («мыслящая оболочка», сфера разума) - высшая стадия развития биосферы. Это «сфера взаимодействия природы и общества, в пределах которой разумная человеческая деятельность становится главным, определяющим фактором развит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92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еловек мощная геологическая сила, оказывающая влияние на ход биогеохимических и других процессов в охваченной ее воздействием среде Земли и околоземном пространст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новление ноосферы «есть не случайное явление на нашей планете», а «природное явление, резко материально проявляющееся в своих следствиях в окружающей человека среде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еры взаимодействия науки и нравствен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соотношение науки и ученых с применением их открытий в практической повседневной жи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продолжать ли исследования той области реальности, познание законов которой может нанести вред отдельным людям и человечеству в це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брать ли на себя ответственность за использование результатов открытий «во зло» - для разрушения, убийства, манипулирования сознанием и жизн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еры взаимодействия науки и нравствен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848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нутринаучная этика, т.е. те нормы, ценности и правила, которые регулируют поведение ученых в рамках их собственного сообщества (объективность, честность, порядочность, способность к научному диалог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роблемы, с одной стороны, взаимодействия науки с сопредельными областями знания (столкновение с искусством, науками, построенными на других методологических приемах и проч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взаимодействие теории с экспериментальной областью в самой науке (напр, вопрос об экспериментах над животным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циентизм и антисциентизм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Arial"/>
              </a:rPr>
              <a:t>Сциентиз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- концепция, которая абсолютизирует роль науки в системе культуры и идейной жизни общества. Возник в конце XIX- начале XX в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циентизм не учитывает сложность общественной жизн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Arial"/>
              </a:rPr>
              <a:t>Антисциентиз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утверждает ограниченность возможностей науки в решении коренных проблем человеческого существования, говорит о враждебности науки человеку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систем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явление внешних связей сист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ение функции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наружение на этой основе закономерностей и тенденций развития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итог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Систе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бладает признаком 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целост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соединяясь в единое целое, части образуют нечто обладающее качествами, не сводимыми к качествам отдельных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 к си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Проблема энтроп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ический подход (19 в.) - материя стремится к исходному равновесию, (энергетически - хаос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Энтроп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мера беспорядка системы. «Теплота не переходит самопроизвольно от холодного тела к более горячему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 к си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000" y="1905120"/>
            <a:ext cx="6767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«При самопроизвольных процессах в системах, имеющих постоянную энергию, энтропия всегда возрастает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т.е. состоящая из некоторого множества частиц изолированная (с постоянной энергией) система стремится перейти в состояние с наименьшей упорядоченностью движения частиц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 к синерг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симальная энтропия означает полное термодинамическое равновесие, что эквивалентно полному хаос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блем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возникла сама Вселенна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бъяснить биологическую эволюцию (рост порядка и сложности)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аковы поводы для появления синерге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организация (по Хаке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Синерге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буквально означает кооперативность, сотрудничество, взаимодействие различных элементов 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ает системы, состоящие из многих подсист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самоорганизации простых сист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организация (по Хаке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6840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объекту изучения в синергети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Открытость – обязательный обмен энергией и (или) веществом с окружающей сред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Существенная неравновес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Выход из критического состояния скачком – переходом в качественно новое состояние с более высоким уровнем упорядоч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рганизация (по Пригож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терия имеет способность к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самоорганиз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созданию, совершенствованию, воспроизводству самой себя без участия внешних с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общей формой внутренних изменений, является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флуктуа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постоянно присущие материи случайные колебания и отклон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00:50Z</dcterms:created>
  <dc:creator>Владас</dc:creator>
  <dc:description/>
  <dc:language>en-US</dc:language>
  <cp:lastModifiedBy>Владас</cp:lastModifiedBy>
  <dcterms:modified xsi:type="dcterms:W3CDTF">2009-04-16T13:59:16Z</dcterms:modified>
  <cp:revision>141</cp:revision>
  <dc:subject/>
  <dc:title>Слайд 1</dc:title>
</cp:coreProperties>
</file>